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69F4-C59A-4ED6-933D-911B72E4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127-C4F8-438F-9A70-927893B3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7FA5-5029-4A49-A7F3-0D849E505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74AF-7ECE-49E0-AB53-450D7DA6C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73D8-BBB1-48E5-BE48-45D1CFEE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8B58-3BBA-45D5-BA85-958F071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23E-03FB-41A0-B2B5-812FF728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2828-F551-408A-83F6-2C54F874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3E21-DB61-430D-8A36-6D95B187D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60CC-3CDB-4536-A0C5-35CB311D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9A33-4A9D-4F41-BC48-1D7AC003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C7A7-F2BA-4707-A0A4-CFE6FDBF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8A8B-E72A-4A02-8522-21AB377A78A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"/>
              </a:rPr>
              <a:t>Special and Vulnerable</a:t>
            </a:r>
            <a:br>
              <a:rPr sz="4400"/>
            </a:b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.K. Pachauri is talking about, that inaction would allow that the weather to change and is incapable of being chang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abated-at full of streng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rupt-change in wea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reversible-incapable of being rever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6:43:44Z</dcterms:created>
  <dc:creator>PA Department of Education</dc:creator>
  <dc:description/>
  <dc:language>en-US</dc:language>
  <cp:lastModifiedBy>PA Department of Education</cp:lastModifiedBy>
  <dcterms:modified xsi:type="dcterms:W3CDTF">2009-05-27T16:44:48Z</dcterms:modified>
  <cp:revision>4</cp:revision>
  <dc:subject/>
  <dc:title>Special and Vulnerable </dc:title>
</cp:coreProperties>
</file>